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6FD-1A98-47F7-9946-FF1571E3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B77-6866-42E8-BDE8-94744374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CC2-7B8B-46B7-BC24-8E4CB828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254-E77D-4D18-81B0-0D4122AD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133-AA11-46C2-98B6-B29B791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044B-8EB6-495D-A486-B65ABD0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B4D1-43F8-4F23-BD21-B6635360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FC4E-EF08-42D0-81BE-C0F3FCFA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3718-5F21-4FF1-B443-D0FF7029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075-2B5E-4544-9AF8-DB26E83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3C92-6839-439A-B6FB-E7D4BED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D3C-7715-4080-9843-835778F8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BC0D-C78C-4410-9FE0-B90D3C0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8146-95E7-4431-B3F3-63B4F785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F5D2-31F6-484F-96F2-6396851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463D-F59A-453C-A79A-D08831A9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F7DE-15E6-4C2C-9DAB-383A2668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AFC-9617-4F0B-9E2E-E08FF4B6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135-81C5-4F9D-81B0-4B1F5D93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82F-A4A0-45A6-AE7B-E39D75ED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766-9EAC-4FC8-908C-3831F694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BAC-EE40-4064-A914-8A67A56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0A0-E089-433A-BB9F-40457B0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567-B95F-48C2-95DE-A8C303B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EBA-E8C7-496B-9CCC-04B6E8C548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308C-5A65-4BCF-8E54-BC3681CFDF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onlinetestpad.com/5w7lrntnt4wri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73;&#1086;&#1088;&#1080;&#1089;%20&#1089;&#1077;&#1084;&#1077;&#1085;&#1086;&#1074;&#1080;&#1095;%20&#1103;&#1082;&#1086;&#1073;&#1080;&amp;noreask=1&amp;img_url=http://pochemuha.ru/wp-content/uploads/2010/07/Yakobi-246x300.jpg&amp;pos=15&amp;rpt=simage&amp;lr=213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весна2010\Мои документы\Fotolia_Scott-Rothstein_01.jpg"/>
          <p:cNvPicPr/>
          <p:nvPr/>
        </p:nvPicPr>
        <p:blipFill>
          <a:blip r:embed="rId1"/>
          <a:stretch/>
        </p:blipFill>
        <p:spPr>
          <a:xfrm>
            <a:off x="450720" y="219240"/>
            <a:ext cx="4469040" cy="2858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весна2010\Рабочий стол\ШКОЛА-ЮЛЯ\ЮЛЁК\САЙТ\106a.jpg"/>
          <p:cNvPicPr/>
          <p:nvPr/>
        </p:nvPicPr>
        <p:blipFill>
          <a:blip r:embed="rId2"/>
          <a:stretch/>
        </p:blipFill>
        <p:spPr>
          <a:xfrm>
            <a:off x="5651640" y="2492280"/>
            <a:ext cx="2952720" cy="1559160"/>
          </a:xfrm>
          <a:prstGeom prst="rect">
            <a:avLst/>
          </a:prstGeom>
          <a:ln w="0">
            <a:noFill/>
          </a:ln>
        </p:spPr>
      </p:pic>
      <p:grpSp>
        <p:nvGrpSpPr>
          <p:cNvPr id="84" name="Text Box 3"/>
          <p:cNvGrpSpPr/>
          <p:nvPr/>
        </p:nvGrpSpPr>
        <p:grpSpPr>
          <a:xfrm>
            <a:off x="684360" y="3789360"/>
            <a:ext cx="7884720" cy="2592000"/>
            <a:chOff x="684360" y="3789360"/>
            <a:chExt cx="7884720" cy="2592000"/>
          </a:xfrm>
        </p:grpSpPr>
        <p:pic>
          <p:nvPicPr>
            <p:cNvPr id="85" name="Text Box 3" descr=""/>
            <p:cNvPicPr/>
            <p:nvPr/>
          </p:nvPicPr>
          <p:blipFill>
            <a:blip r:embed="rId3"/>
            <a:stretch/>
          </p:blipFill>
          <p:spPr>
            <a:xfrm>
              <a:off x="684360" y="3789360"/>
              <a:ext cx="788472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"/>
            <p:cNvSpPr/>
            <p:nvPr/>
          </p:nvSpPr>
          <p:spPr>
            <a:xfrm>
              <a:off x="753480" y="3947040"/>
              <a:ext cx="77504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7" name="Rectangle 13"/>
          <p:cNvSpPr/>
          <p:nvPr/>
        </p:nvSpPr>
        <p:spPr>
          <a:xfrm>
            <a:off x="684360" y="407664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Закон электролиза Фарадея. Применение электролиз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580000" y="1628640"/>
            <a:ext cx="3240000" cy="711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54200" y="3090960"/>
            <a:ext cx="63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бинированный урок-осво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х знаний по тем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1057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Рафинирование металл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это очистка металлов от примесей  с помощью электролиза, когда неочищенный металл является анодом, а на катоде оседает очищенный (примеси выпадают на дно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1908000" y="2276640"/>
            <a:ext cx="5256360" cy="396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96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Табличка 6"/>
          <p:cNvSpPr/>
          <p:nvPr/>
        </p:nvSpPr>
        <p:spPr>
          <a:xfrm>
            <a:off x="539640" y="260280"/>
            <a:ext cx="8425080" cy="1932120"/>
          </a:xfrm>
          <a:custGeom>
            <a:avLst/>
            <a:gdLst>
              <a:gd name="textAreaLeft" fmla="*/ 227520 w 8425080"/>
              <a:gd name="textAreaRight" fmla="*/ 8197560 w 8425080"/>
              <a:gd name="textAreaTop" fmla="*/ 227520 h 1932120"/>
              <a:gd name="textAreaBottom" fmla="*/ 1704600 h 1932120"/>
            </a:gdLst>
            <a:ahLst/>
            <a:rect l="textAreaLeft" t="textAreaTop" r="textAreaRight" b="textAreaBottom"/>
            <a:pathLst>
              <a:path w="9417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574" y="21600"/>
                </a:lnTo>
                <a:arcTo wR="3600" hR="3600" stAng="10800000" swAng="5400000"/>
                <a:lnTo>
                  <a:pt x="94174" y="3600"/>
                </a:lnTo>
                <a:arcTo wR="3600" hR="3600" stAng="5400000" swAng="5400000"/>
                <a:close/>
              </a:path>
            </a:pathLst>
          </a:custGeom>
          <a:noFill/>
          <a:ln w="25560">
            <a:solidFill>
              <a:srgbClr val="244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0" y="1773360"/>
            <a:ext cx="6337440" cy="4414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177840" y="981000"/>
            <a:ext cx="539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учение алюми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48360" y="1773360"/>
            <a:ext cx="3095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угольный тигель (катод) насыпают глинозем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нодом являются угольные стержни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сплавленный алюминий через отверстие выливается в формы для отливки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Text Box 3"/>
          <p:cNvGrpSpPr/>
          <p:nvPr/>
        </p:nvGrpSpPr>
        <p:grpSpPr>
          <a:xfrm>
            <a:off x="-133200" y="12600"/>
            <a:ext cx="6924600" cy="1526760"/>
            <a:chOff x="-133200" y="12600"/>
            <a:chExt cx="6924600" cy="1526760"/>
          </a:xfrm>
        </p:grpSpPr>
        <p:pic>
          <p:nvPicPr>
            <p:cNvPr id="132" name="Text Box 3" descr=""/>
            <p:cNvPicPr/>
            <p:nvPr/>
          </p:nvPicPr>
          <p:blipFill>
            <a:blip r:embed="rId1"/>
            <a:stretch/>
          </p:blipFill>
          <p:spPr>
            <a:xfrm>
              <a:off x="-133200" y="12600"/>
              <a:ext cx="69246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1000" y="165240"/>
              <a:ext cx="649116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200" spc="-1" strike="noStrike">
                  <a:solidFill>
                    <a:srgbClr val="000000"/>
                  </a:solidFill>
                  <a:latin typeface="Georgia"/>
                </a:rPr>
                <a:t>Задача для теоретиков</a:t>
              </a:r>
              <a:endParaRPr b="0" lang="en-US" sz="4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4" name="Picture 2" descr="C:\Documents and Settings\весна2010\Рабочий стол\ШКОЛА-ЮЛЯ\ЮЛЁК\САЙТ\71011d1e291f.gif"/>
          <p:cNvPicPr/>
          <p:nvPr/>
        </p:nvPicPr>
        <p:blipFill>
          <a:blip r:embed="rId2"/>
          <a:stretch/>
        </p:blipFill>
        <p:spPr>
          <a:xfrm>
            <a:off x="6572160" y="285840"/>
            <a:ext cx="1805040" cy="107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7308720" y="3697200"/>
                <a:ext cx="584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732720" y="5229360"/>
                <a:ext cx="512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11"/>
          <p:cNvSpPr/>
          <p:nvPr/>
        </p:nvSpPr>
        <p:spPr>
          <a:xfrm>
            <a:off x="299880" y="1126440"/>
            <a:ext cx="889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лучении цинка с помощью электролиза к электролитической ванне подведено напряжение 10В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йт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противление электролита, если за 1 час выделилось 6,1 г цинка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,4∙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11120" y="4883400"/>
            <a:ext cx="8713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олщину покрытия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лощадь катода 8,6 см</a:t>
            </a:r>
            <a:r>
              <a:rPr b="0" lang="ru-RU" sz="3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лотность цинка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100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15960" y="41392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4"/>
          <p:cNvSpPr/>
          <p:nvPr/>
        </p:nvSpPr>
        <p:spPr>
          <a:xfrm>
            <a:off x="179280" y="2133720"/>
            <a:ext cx="92170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60a31"/>
                </a:solidFill>
                <a:latin typeface="Times New Roman"/>
              </a:rPr>
              <a:t>Вывод: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щества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деляемого на электродах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т от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я,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и раствора,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я между электродами,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и электродов.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Text Box 11"/>
          <p:cNvGrpSpPr/>
          <p:nvPr/>
        </p:nvGrpSpPr>
        <p:grpSpPr>
          <a:xfrm>
            <a:off x="0" y="0"/>
            <a:ext cx="8740800" cy="1844640"/>
            <a:chOff x="0" y="0"/>
            <a:chExt cx="8740800" cy="1844640"/>
          </a:xfrm>
        </p:grpSpPr>
        <p:pic>
          <p:nvPicPr>
            <p:cNvPr id="142" name="Text Box 1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74080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8"/>
            <p:cNvSpPr/>
            <p:nvPr/>
          </p:nvSpPr>
          <p:spPr>
            <a:xfrm>
              <a:off x="125280" y="185400"/>
              <a:ext cx="8501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Georgia"/>
                </a:rPr>
                <a:t>Результаты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Georgia"/>
                </a:rPr>
                <a:t>экспериментов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69720" y="299700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. По результатам эксперимент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ссчитайте расход энерги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заряд электрон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. Выполните тест - 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s://onlinetestpad.com/5w7lrntnt4wri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5" name="Text Box 11"/>
          <p:cNvGrpSpPr/>
          <p:nvPr/>
        </p:nvGrpSpPr>
        <p:grpSpPr>
          <a:xfrm>
            <a:off x="0" y="1413000"/>
            <a:ext cx="8967600" cy="1304640"/>
            <a:chOff x="0" y="1413000"/>
            <a:chExt cx="8967600" cy="1304640"/>
          </a:xfrm>
        </p:grpSpPr>
        <p:pic>
          <p:nvPicPr>
            <p:cNvPr id="146" name="Text Box 11" descr=""/>
            <p:cNvPicPr/>
            <p:nvPr/>
          </p:nvPicPr>
          <p:blipFill>
            <a:blip r:embed="rId2"/>
            <a:stretch/>
          </p:blipFill>
          <p:spPr>
            <a:xfrm>
              <a:off x="0" y="1413000"/>
              <a:ext cx="896760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6"/>
            <p:cNvSpPr/>
            <p:nvPr/>
          </p:nvSpPr>
          <p:spPr>
            <a:xfrm>
              <a:off x="241200" y="1628640"/>
              <a:ext cx="8501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000000"/>
                  </a:solidFill>
                  <a:latin typeface="Georgia"/>
                </a:rPr>
                <a:t>Домашнее задание</a:t>
              </a:r>
              <a:endParaRPr b="0" lang="en-US" sz="6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4" descr=""/>
          <p:cNvPicPr/>
          <p:nvPr/>
        </p:nvPicPr>
        <p:blipFill>
          <a:blip r:embed="rId1"/>
          <a:stretch/>
        </p:blipFill>
        <p:spPr>
          <a:xfrm>
            <a:off x="4246560" y="3595680"/>
            <a:ext cx="4608360" cy="2697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3176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ссмотреть практическое применение электролиза; обобщить и закрепить знания по теме: «Электролиз» через эксперимент и решение зада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14200" y="357120"/>
            <a:ext cx="4643640" cy="703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Цель урока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14200" y="2506680"/>
            <a:ext cx="864072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ьны ли вы как прошел урок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ли вам интересно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были активны на урок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и ли вы новые знани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65160" y="4338720"/>
            <a:ext cx="38988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рассмотреть практическое применение электролиза; обобщить и закрепить знания по теме: «Электролиз» через эксперимент и решение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Оргмомент. Постановка целей уро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ктуализация зна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актическая ча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одведение итогов урока. Домашнее зада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14200" y="357120"/>
            <a:ext cx="4643640" cy="703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Цель урока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525600" y="1268280"/>
            <a:ext cx="3168360" cy="2691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917640" y="260280"/>
            <a:ext cx="6662520" cy="703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хема эксперимен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17492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2198520" y="4041720"/>
            <a:ext cx="21592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4510080" y="4041720"/>
            <a:ext cx="2266920" cy="27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faraday_1"/>
          <p:cNvPicPr/>
          <p:nvPr/>
        </p:nvPicPr>
        <p:blipFill>
          <a:blip r:embed="rId1"/>
          <a:stretch/>
        </p:blipFill>
        <p:spPr>
          <a:xfrm>
            <a:off x="0" y="907920"/>
            <a:ext cx="4102200" cy="4719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57120" y="285840"/>
            <a:ext cx="814392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следовал электролиз и открыл его законы английский физик Майкл Фарадей в 1834 год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5229360"/>
            <a:ext cx="361944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йкл Фараде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791 – 186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70360" y="1500120"/>
            <a:ext cx="5094360" cy="399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«Никогда со времен Галилея свет не видел стольких поразительных и разнообразных открытий, вышедших из одной головы, и едва ли скоро увидит другого Фарадея!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.Г. Стол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9000" y="499680"/>
            <a:ext cx="512928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имен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электроли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00120" y="3000240"/>
            <a:ext cx="721512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2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Гальваностег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002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Гальванопласти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002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Рафинирование металл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002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Georgia"/>
              </a:rPr>
              <a:t>Получение алюми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Табличка 9"/>
          <p:cNvSpPr/>
          <p:nvPr/>
        </p:nvSpPr>
        <p:spPr>
          <a:xfrm>
            <a:off x="642960" y="500040"/>
            <a:ext cx="7786800" cy="2071800"/>
          </a:xfrm>
          <a:custGeom>
            <a:avLst/>
            <a:gdLst>
              <a:gd name="textAreaLeft" fmla="*/ 244080 w 7786800"/>
              <a:gd name="textAreaRight" fmla="*/ 7542720 w 7786800"/>
              <a:gd name="textAreaTop" fmla="*/ 244080 h 2071800"/>
              <a:gd name="textAreaBottom" fmla="*/ 1827720 h 2071800"/>
            </a:gdLst>
            <a:ahLst/>
            <a:rect l="textAreaLeft" t="textAreaTop" r="textAreaRight" b="textAreaBottom"/>
            <a:pathLst>
              <a:path w="811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7573" y="21600"/>
                </a:lnTo>
                <a:arcTo wR="3600" hR="3600" stAng="10800000" swAng="5400000"/>
                <a:lnTo>
                  <a:pt x="81173" y="3600"/>
                </a:lnTo>
                <a:arcTo wR="3600" hR="3600" stAng="5400000" swAng="5400000"/>
                <a:close/>
              </a:path>
            </a:pathLst>
          </a:custGeom>
          <a:noFill/>
          <a:ln w="22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Рисунок 10" descr="38_06.jpg"/>
          <p:cNvPicPr/>
          <p:nvPr/>
        </p:nvPicPr>
        <p:blipFill>
          <a:blip r:embed="rId1"/>
          <a:stretch/>
        </p:blipFill>
        <p:spPr>
          <a:xfrm>
            <a:off x="1428840" y="714240"/>
            <a:ext cx="2500200" cy="1500480"/>
          </a:xfrm>
          <a:prstGeom prst="rect">
            <a:avLst/>
          </a:prstGeom>
          <a:ln w="0">
            <a:noFill/>
          </a:ln>
        </p:spPr>
      </p:pic>
      <p:sp>
        <p:nvSpPr>
          <p:cNvPr id="105" name="Скругленный прямоугольник 11"/>
          <p:cNvSpPr/>
          <p:nvPr/>
        </p:nvSpPr>
        <p:spPr>
          <a:xfrm>
            <a:off x="1428840" y="714240"/>
            <a:ext cx="2500200" cy="15004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396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Шестиугольник 8"/>
          <p:cNvSpPr/>
          <p:nvPr/>
        </p:nvSpPr>
        <p:spPr>
          <a:xfrm>
            <a:off x="714240" y="2857680"/>
            <a:ext cx="7715520" cy="3214440"/>
          </a:xfrm>
          <a:prstGeom prst="hexagon">
            <a:avLst>
              <a:gd name="adj" fmla="val 25003"/>
              <a:gd name="vf" fmla="val 115470"/>
            </a:avLst>
          </a:prstGeom>
          <a:noFill/>
          <a:ln w="22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04508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стеги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19680" y="1557000"/>
            <a:ext cx="43243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то процесс, который позволяет покрыть изделие слоем благородного металла, защитить его от коррозии, повысить стойкость на износ, произвести отделку изделий (никелирование, омеднение, хромирование, золочение, серебрение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1773360"/>
            <a:ext cx="5003640" cy="33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09_big"/>
          <p:cNvPicPr/>
          <p:nvPr/>
        </p:nvPicPr>
        <p:blipFill>
          <a:blip r:embed="rId2"/>
          <a:stretch/>
        </p:blipFill>
        <p:spPr>
          <a:xfrm>
            <a:off x="5781600" y="4632480"/>
            <a:ext cx="334800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entury"/>
              </a:rPr>
              <a:t>электролитическое изготовление металлических копий с рельефных предметов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7570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пласти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24000" y="400536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пия барельефа, полученная методом гальванопласт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224320" y="3005280"/>
            <a:ext cx="3108600" cy="3035160"/>
          </a:xfrm>
          <a:prstGeom prst="rect">
            <a:avLst/>
          </a:prstGeom>
          <a:ln w="0">
            <a:noFill/>
          </a:ln>
        </p:spPr>
      </p:pic>
      <p:cxnSp>
        <p:nvCxnSpPr>
          <p:cNvPr id="115" name="Прямая со стрелкой 23"/>
          <p:cNvCxnSpPr/>
          <p:nvPr/>
        </p:nvCxnSpPr>
        <p:spPr>
          <a:xfrm flipV="1">
            <a:off x="3995280" y="4723920"/>
            <a:ext cx="1369080" cy="7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im3-tub-ru.yandex.net/i?id=130970036-1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3308400" cy="42321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3395520" y="1512720"/>
            <a:ext cx="57484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би Борис Семенови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1-1874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физик и изобретатель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электротехник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 процесса гальванопластик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 ве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едения искусства (барельефы)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9" name="Picture 6" descr="петропавловский собор3"/>
          <p:cNvPicPr/>
          <p:nvPr/>
        </p:nvPicPr>
        <p:blipFill>
          <a:blip r:embed="rId1"/>
          <a:stretch/>
        </p:blipFill>
        <p:spPr>
          <a:xfrm>
            <a:off x="6111720" y="1544760"/>
            <a:ext cx="2498760" cy="35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зимний дворец"/>
          <p:cNvPicPr/>
          <p:nvPr/>
        </p:nvPicPr>
        <p:blipFill>
          <a:blip r:embed="rId2"/>
          <a:stretch/>
        </p:blipFill>
        <p:spPr>
          <a:xfrm>
            <a:off x="372960" y="960480"/>
            <a:ext cx="3308400" cy="24811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783720" y="33274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имний дворе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5945400" y="5049720"/>
            <a:ext cx="294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ропавловск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барельеф исаакиевского собора"/>
          <p:cNvPicPr/>
          <p:nvPr/>
        </p:nvPicPr>
        <p:blipFill>
          <a:blip r:embed="rId3"/>
          <a:stretch/>
        </p:blipFill>
        <p:spPr>
          <a:xfrm>
            <a:off x="1787400" y="3979800"/>
            <a:ext cx="378648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9"/>
          <p:cNvSpPr/>
          <p:nvPr/>
        </p:nvSpPr>
        <p:spPr>
          <a:xfrm>
            <a:off x="2143800" y="62406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аакиевский соб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0:50:27Z</dcterms:created>
  <dc:creator>2</dc:creator>
  <dc:description/>
  <dc:language>en-US</dc:language>
  <cp:lastModifiedBy>baldicheva</cp:lastModifiedBy>
  <dcterms:modified xsi:type="dcterms:W3CDTF">2023-10-25T19:30:41Z</dcterms:modified>
  <cp:revision>97</cp:revision>
  <dc:subject/>
  <dc:title>ЭЛЕКТРОЛИЗ</dc:title>
</cp:coreProperties>
</file>